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E4FC-4BBC-4B99-901F-7B2F47DB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AA0-F1F6-4D5A-B816-60CECDC8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739-D366-4EA1-A728-13F98D76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1B7-DC83-4F02-9D68-0BF1CE38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722E3-4803-4903-9210-439F114B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076C7-530D-448C-92BD-9388C26A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3C988-3A69-4EFF-8816-ECDC2060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02872-12E6-4AD9-A956-B3343E00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E3A29-7866-43CA-8767-81D560F2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FF779-5B93-4400-8047-4EFD7653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81235-9463-474F-8510-7C28AD18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889-E890-41ED-9325-F14F8BD8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53CE4-2E16-4D15-A20A-EA6D5028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55B99-5A05-40B8-904B-E730D152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23E93-A454-4820-8973-43E851E1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36F94-E6AD-44F9-9A93-0D781D3A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CAAF5-0C4F-468E-9424-7A2DEF39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A4E-6C55-4FD7-9E20-E0C37F75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D3C-00A4-4C9E-B736-D5099A40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292-45DD-4B4F-9C08-E81DDCD9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207-B369-4AF3-84F5-4CD14AA5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1FE-FC98-4234-ADE6-1DF854C5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977-6279-4019-98CE-002AA7A3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B38-9BEC-449A-8A6A-AC055D2E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BC34-22A1-4BEC-8A7F-E0BB2C2C37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ED51-EB52-416A-B876-9A57372152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French Script MT"/>
              </a:rPr>
              <a:t>Le Rosecliff Château 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71440"/>
            <a:ext cx="640080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ench Script MT"/>
              </a:rPr>
              <a:t>By Samantha LeBlan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Freestyle Script"/>
              </a:rPr>
              <a:t>Le Rosecliff Ch</a:t>
            </a:r>
            <a:r>
              <a:rPr b="0" lang="en-US" sz="4400" spc="-1" strike="noStrike">
                <a:solidFill>
                  <a:srgbClr val="00ffcc"/>
                </a:solidFill>
                <a:latin typeface="Freestyle Script"/>
                <a:ea typeface="Arial"/>
              </a:rPr>
              <a:t>â</a:t>
            </a:r>
            <a:r>
              <a:rPr b="0" lang="en-US" sz="4400" spc="-1" strike="noStrike">
                <a:solidFill>
                  <a:srgbClr val="00ffcc"/>
                </a:solidFill>
                <a:latin typeface="Freestyle Script"/>
              </a:rPr>
              <a:t>tea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Lucida Handwriting"/>
                <a:ea typeface="Arial"/>
              </a:rPr>
              <a:t>Les mur sont blanc et bel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Lucida Handwriting"/>
                <a:ea typeface="Arial"/>
              </a:rPr>
              <a:t>M. et MME. J. Edgar Monroe Ont’habite i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rosecliff-newport-rhode-island"/>
          <p:cNvPicPr/>
          <p:nvPr/>
        </p:nvPicPr>
        <p:blipFill>
          <a:blip r:embed="rId1"/>
          <a:stretch/>
        </p:blipFill>
        <p:spPr>
          <a:xfrm>
            <a:off x="4572000" y="2971800"/>
            <a:ext cx="457200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French Script MT"/>
              </a:rPr>
              <a:t>Le Sal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Handwriting"/>
              </a:rPr>
              <a:t>C’est le sal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Handwriting"/>
              </a:rPr>
              <a:t>Le mur est marron et les chaise sont blan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rosecliff-salon"/>
          <p:cNvPicPr/>
          <p:nvPr/>
        </p:nvPicPr>
        <p:blipFill>
          <a:blip r:embed="rId1"/>
          <a:stretch/>
        </p:blipFill>
        <p:spPr>
          <a:xfrm>
            <a:off x="5477040" y="2262240"/>
            <a:ext cx="328608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French Script MT"/>
              </a:rPr>
              <a:t>La Salle </a:t>
            </a:r>
            <a:r>
              <a:rPr b="0" lang="en-US" sz="4400" spc="-1" strike="noStrike">
                <a:solidFill>
                  <a:srgbClr val="a50021"/>
                </a:solidFill>
                <a:latin typeface="French Script MT"/>
                <a:ea typeface="Arial"/>
              </a:rPr>
              <a:t>à Mang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Lucida Handwriting"/>
                <a:ea typeface="Arial"/>
              </a:rPr>
              <a:t>La salle à manger est blanche et marr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Lucida Handwriting"/>
                <a:ea typeface="Arial"/>
              </a:rPr>
              <a:t>Les chaise sontnoir et marr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rosecliff-newport-ri-dining-room"/>
          <p:cNvPicPr/>
          <p:nvPr/>
        </p:nvPicPr>
        <p:blipFill>
          <a:blip r:embed="rId1"/>
          <a:stretch/>
        </p:blipFill>
        <p:spPr>
          <a:xfrm>
            <a:off x="4648320" y="2898720"/>
            <a:ext cx="4495680" cy="17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French Script MT"/>
              </a:rPr>
              <a:t>La Terra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Lucida Handwriting"/>
              </a:rPr>
              <a:t>C’est la terr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Lucida Handwriting"/>
              </a:rPr>
              <a:t>La terrase est jol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Content Placeholder 4" descr="rosecliff-newport-ri-event.jpg"/>
          <p:cNvPicPr/>
          <p:nvPr/>
        </p:nvPicPr>
        <p:blipFill>
          <a:blip r:embed="rId1"/>
          <a:stretch/>
        </p:blipFill>
        <p:spPr>
          <a:xfrm>
            <a:off x="4648320" y="3067200"/>
            <a:ext cx="403848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French Script MT"/>
              </a:rPr>
              <a:t>Le Jard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97a0"/>
                </a:solidFill>
                <a:latin typeface="Lucida Handwriting"/>
              </a:rPr>
              <a:t>Le Jardin est beau et bel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97a0"/>
                </a:solidFill>
                <a:latin typeface="Lucida Handwriting"/>
              </a:rPr>
              <a:t>Les fleurs sont dans le Jard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Content Placeholder 4" descr="rosecliff.jpg"/>
          <p:cNvPicPr/>
          <p:nvPr/>
        </p:nvPicPr>
        <p:blipFill>
          <a:blip r:embed="rId1"/>
          <a:stretch/>
        </p:blipFill>
        <p:spPr>
          <a:xfrm>
            <a:off x="5257800" y="2209680"/>
            <a:ext cx="3516480" cy="276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8:48:24Z</dcterms:created>
  <dc:creator>leblancsam</dc:creator>
  <dc:description/>
  <dc:language>en-US</dc:language>
  <cp:lastModifiedBy>leblancsam</cp:lastModifiedBy>
  <dcterms:modified xsi:type="dcterms:W3CDTF">2011-11-14T16:52:37Z</dcterms:modified>
  <cp:revision>21</cp:revision>
  <dc:subject/>
  <dc:title>The Rosecliff Mansion</dc:title>
</cp:coreProperties>
</file>